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433F-B600-41EB-A980-F3D103AD0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A230-BB67-40CF-8EF3-2626FB636A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BC0-2E0D-48DB-9BF9-351C6628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ECF-C6EC-44E3-BEF8-378B2593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6E0-F276-4351-97BF-02E7BBA3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580-2050-4057-B05F-1B72F520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B1D-727B-4F06-B5D2-07F1226B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BCE-AF1E-44F2-B1C4-BF9D4056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46F-58EC-4379-B13B-4F486C94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FA0-9BDA-431F-B88A-F697962D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EF0-6634-488E-916C-A29E8D55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899-7DAC-479D-8997-408E7884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62F-CA41-4090-A141-C8776C9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0F9-BA3D-4A1B-8B97-0286A04A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4ACC-14E8-4DAD-8513-9E72AB6979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oogle.com/imgres?imgurl=http://druffmix.com/wp-content/uploads/2009/07/arrow-down.jpg&amp;imgrefurl=http://druffmix.com/druffmix-30-the-up-and-down-default-pt-1/&amp;usg=__xWqUk5SuF_gyumYXE9C7xxlbmrM=&amp;h=600&amp;w=600&amp;sz=14&amp;hl=en&amp;start=2&amp;sig2=nIMTbhZgLYlgbW6kcVQdiw&amp;zoom=1&amp;tbnid=Ux4U2gtKSWEE7M:&amp;tbnh=135&amp;tbnw=135&amp;ei=HFrdTvv8EKe-2AW9w7mrBQ&amp;prev=/search%3Fq%3Dup%2Band%2Bdown%2Barrows%26hl%3Den%26sa%3DX%26gbv%3D2%26tbm%3Disch&amp;itbs=1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2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Medical Practitione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B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Haley Mohl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Emily R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Lucida Sans"/>
              </a:rPr>
              <a:t>Faith Heal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Believed demons and evil spirits caused sickne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Got sickness out through exorc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ainly seen in the Countrysi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The-Exorcist"/>
          <p:cNvPicPr/>
          <p:nvPr/>
        </p:nvPicPr>
        <p:blipFill>
          <a:blip r:embed="rId1"/>
          <a:stretch/>
        </p:blipFill>
        <p:spPr>
          <a:xfrm>
            <a:off x="5181480" y="2666880"/>
            <a:ext cx="2857680" cy="3600720"/>
          </a:xfrm>
          <a:prstGeom prst="rect">
            <a:avLst/>
          </a:prstGeom>
          <a:ln w="9360">
            <a:solidFill>
              <a:srgbClr val="468a4b"/>
            </a:solidFill>
            <a:miter/>
          </a:ln>
        </p:spPr>
      </p:pic>
      <p:pic>
        <p:nvPicPr>
          <p:cNvPr id="53" name="Picture 9" descr="1314071557-easter-cross"/>
          <p:cNvPicPr/>
          <p:nvPr/>
        </p:nvPicPr>
        <p:blipFill>
          <a:blip r:embed="rId2"/>
          <a:stretch/>
        </p:blipFill>
        <p:spPr>
          <a:xfrm rot="1203600">
            <a:off x="6553080" y="1981080"/>
            <a:ext cx="1828800" cy="166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2362320" cy="2054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Lucida Sans"/>
              </a:rPr>
              <a:t>Apothecaries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11" descr="apothecaryshopb"/>
          <p:cNvPicPr/>
          <p:nvPr/>
        </p:nvPicPr>
        <p:blipFill>
          <a:blip r:embed="rId2"/>
          <a:stretch/>
        </p:blipFill>
        <p:spPr>
          <a:xfrm>
            <a:off x="5181480" y="1828800"/>
            <a:ext cx="2895840" cy="4000680"/>
          </a:xfrm>
          <a:prstGeom prst="rect">
            <a:avLst/>
          </a:prstGeom>
          <a:ln w="9360">
            <a:solidFill>
              <a:srgbClr val="5c1f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Pharmac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Complex prescrip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Lucida Sans"/>
              </a:rPr>
              <a:t>Physicia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eth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Purg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Bloodlett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Lucida Sans"/>
              </a:rPr>
              <a:t>Surge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ade medical and social progr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ilitary surge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No knowledge of bacte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3809880" cy="26863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1026600">
            <a:off x="5638320" y="1371240"/>
            <a:ext cx="3086280" cy="25239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idw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Wo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Educa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Assisted with labor &amp; delivering bab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Dealt with female 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Madame Du Coudray, The Nation’s Midw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1447920"/>
            <a:ext cx="22370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992240" cy="30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s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re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hospit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085920" cy="2857680"/>
          </a:xfrm>
          <a:prstGeom prst="rect">
            <a:avLst/>
          </a:prstGeom>
          <a:ln w="9360">
            <a:solidFill>
              <a:srgbClr val="00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Lucida Sans"/>
              </a:rPr>
              <a:t>Small pox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Black plag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Small po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breakthroughs: Lady Mary Wortley Montagu, Edward Jenne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816600">
            <a:off x="7010280" y="533520"/>
            <a:ext cx="14526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14479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895480" y="3124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Improvem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1800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Women became Midw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Rise of research and experim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Surgeons amputated and cauteriz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rise of Practitioners brought knowl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ed to clean hospitals to reduce infection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21:07:47Z</dcterms:created>
  <dc:creator>Mohler</dc:creator>
  <dc:description/>
  <dc:language>en-US</dc:language>
  <cp:lastModifiedBy>Mohler</cp:lastModifiedBy>
  <dcterms:modified xsi:type="dcterms:W3CDTF">2011-12-08T02:35:36Z</dcterms:modified>
  <cp:revision>8</cp:revision>
  <dc:subject/>
  <dc:title>Medical Practitioners </dc:title>
</cp:coreProperties>
</file>